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BCA8-A198-4136-9890-AE04EFD70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572D-F5BE-4534-B9F9-1E205848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C834-C573-497C-AD5F-E8A133B48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AB21-160E-463C-8C0A-E11E177F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5BBC-355F-4DC6-A848-389D92FB4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939A-3752-4F3E-BD82-0C44E3FC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473F-B4E1-48CE-B2F0-9DF5FEAD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1EED-4566-43E6-98CE-6D1032E4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8EA0-56D7-494E-84A6-A2D3A9AF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19EE-0D26-41B8-8C2B-306E93F6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FFE4-DA64-450A-A982-B4412025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E9AD-992C-4D0F-9A83-E688EF35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D52A-5082-4046-A002-CE22A1D5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FC4F-FDFE-4D82-BFF6-F7E526E7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E9D8-8F2A-48FD-AAC3-4A08AAF3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377C-5B74-4ADA-8A89-ED911905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38D8-A0D0-4E1B-9B66-9467F16F8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91BDD-C408-4938-8899-1831FEF7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44B2E-DE32-424C-A602-23D90A32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FBC6C-F20A-4C25-9F98-6C02FD65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ED51A-3852-4BF9-82CD-593E6053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4A3AB-0363-43CC-BD1E-3100EA2F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3BE5-8A0A-4EE9-9F95-9002F4FA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5638A-307B-4F0E-AF90-4726DE8F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29374-8EC3-4B72-BFD0-8BD5ED95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0BCAD-6039-4912-9453-1159F25A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58FEE-665C-42D3-8861-53496A7C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0296C-2A09-4B75-9850-11F94FBE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674CF-E0BC-4389-9EF9-A9F8AE591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89606-E1CF-4724-8EBC-FC40C35B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0735F-BD6A-49BA-9A4D-16FEA38EB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BE991-BC2E-422C-A88A-5C163D57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9F3A1-F090-431A-AF59-957A6AA7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6205-4F44-4E6C-A1E8-4B96D9A9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2E817-0ECF-4D53-A261-1C4ABFFB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DF946-EE69-458D-9A97-EEEB2D13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CCA57-2A8C-4CB6-AD92-75A69550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CA259-9A9F-4ABB-93B9-3CC0D71F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B23BB-27DE-4F48-8D14-81181016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32D57-455A-4BA0-95E7-A202C6CD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711D9-1499-41F5-905A-0152A00E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F620C-2C50-4201-BE5F-3778AD2B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74E24-B0CD-4646-B996-0066E7054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18891-B4F0-4247-B0D6-FE3E17A0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3E47-5FBF-4C1D-9DA3-C08015B8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57976-2006-4FE6-ABC0-DDC48836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1F9FB-361A-4FC4-83B4-FFD02D0E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9D473-6FFF-4DF4-892B-CA3E3AB3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626EE-7EE1-4C8C-9E23-03EB4F37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8B1D7-8676-4A68-94F7-1C149411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D5A94-BE77-47D4-9443-D436B346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DCDCB-5BB9-45F1-81B3-39341A69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646A4-4F39-4EA9-B13D-0B27B261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C53BE-CDD0-47E1-8E2D-121CFC0C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D2077-5F60-4016-9039-6280441B2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882B-7037-48A4-9C2C-9C789F01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6600F-3D28-4855-9F8E-274689D1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5C5D-C279-432D-9444-0339D7DE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72E7-7C39-4E2C-BA8A-55122AA7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3D55-8F21-42D5-8C05-41C920BF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9560-143E-4DC9-A078-E69030B2E095}" type="slidenum">
              <a:rPr b="0" lang="ru-RU" sz="1100" spc="-1" strike="noStrike">
                <a:solidFill>
                  <a:srgbClr val="1f497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DBB5-BC45-490F-85C8-4F3AA546E2A3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AE43-D76C-49B8-998F-466C9026ABA9}" type="slidenum">
              <a:rPr b="0" lang="ru-RU" sz="1100" spc="-1" strike="noStrike">
                <a:solidFill>
                  <a:srgbClr val="1f497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BF52-FC52-49C2-989E-4D47B7BB251A}" type="slidenum">
              <a:rPr b="0" lang="ru-RU" sz="1100" spc="-1" strike="noStrike">
                <a:solidFill>
                  <a:srgbClr val="1f497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6FA2-D2D6-4C6C-8DD1-B234331D91F1}" type="slidenum">
              <a:rPr b="0" lang="ru-RU" sz="1100" spc="-1" strike="noStrike">
                <a:solidFill>
                  <a:srgbClr val="1f497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689040" y="907920"/>
            <a:ext cx="7772400" cy="215928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3" descr="autism_ABA.jpg"/>
          <p:cNvPicPr/>
          <p:nvPr/>
        </p:nvPicPr>
        <p:blipFill>
          <a:blip r:embed="rId2"/>
          <a:stretch/>
        </p:blipFill>
        <p:spPr>
          <a:xfrm>
            <a:off x="2700360" y="3573360"/>
            <a:ext cx="42480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1"/>
          <p:cNvSpPr/>
          <p:nvPr/>
        </p:nvSpPr>
        <p:spPr>
          <a:xfrm>
            <a:off x="2124000" y="40464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Литерату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"/>
          <p:cNvSpPr/>
          <p:nvPr/>
        </p:nvSpPr>
        <p:spPr>
          <a:xfrm>
            <a:off x="611280" y="1341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395280" y="1465920"/>
            <a:ext cx="777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икольская О.С., Баенская Е. Р., Либлинг М. М. «Аутичный ребенок. Пути помощ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уриева Л. Г. «Развитие речи у аутичных дете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берт Шрамм «Детский аутизм и АВА. АВА: терапия, основанная на методах прикладного анализа повед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нушко Е. А. «Игры с аутичным ребенко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971640" y="836640"/>
            <a:ext cx="7129440" cy="56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1" i="1" lang="ru-RU" sz="2800" spc="-1" strike="noStrike" u="sng">
                <a:solidFill>
                  <a:srgbClr val="604a7b"/>
                </a:solidFill>
                <a:uFillTx/>
                <a:latin typeface="Trebuchet MS"/>
              </a:rPr>
              <a:t>Основные направления работы с детьми с аутизм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1. Установление эмоционального контакта и выработка продуктивных форм взаимодейств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2. Построение на их основе программы социально-бытовой адаптации, а также систематическая работа с родителями, обучение их эффективному лечебно-педагогическому поведению в домашних условиях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3. Подготовка к школе, включающая освоение им новой социальной роли ученика, элементарных навыков письма, счета, чтения, работу по развитию внимания, памяти, воображения, общей и тонкой моторики, выявление и развитие творческих способностей детей, развитие речи и коммуникативных навык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971640" y="836640"/>
            <a:ext cx="720072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2060"/>
                </a:solidFill>
                <a:uFillTx/>
                <a:latin typeface="Trebuchet MS"/>
                <a:ea typeface="Arial"/>
              </a:rPr>
              <a:t>Психолого-педагогические методы и формы коррекционной работы с аутичными деть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Applied behavior analysis, ABA, или “Модификация поведения”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- Floor Time (“игровое время”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Развитие межличностных отношений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РМО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(Relationship Development Intervention, RDI)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Методика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 TEACCH (Treatment and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Education for Autistic and related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Communication handicapped Children)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Сенсорная интеграц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Песочная терап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Анималотерап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Метод совместного рис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971640" y="907920"/>
            <a:ext cx="741672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7030a0"/>
                </a:solidFill>
                <a:uFillTx/>
                <a:latin typeface="Trebuchet MS"/>
              </a:rPr>
              <a:t>Этапы логопедической работы (Нуриева Л. Г.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ервичный контак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Работа над первичными учебными навык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Работа над указательным жестом и жестами «да» и «нет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Обучение чт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1116000" y="692280"/>
            <a:ext cx="691200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c00000"/>
                </a:solidFill>
                <a:uFillTx/>
                <a:latin typeface="Trebuchet MS"/>
                <a:ea typeface="Arial"/>
              </a:rPr>
              <a:t>Виды логопедической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Тренинг с использованием запах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Развития артикуляторного пракси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Работа над структурой простого предлож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Формирование грамматического строя ре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Работа над расширением фразы, над естественным звучанием голо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Формирование монологическо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Прямоугольник 1" descr=""/>
          <p:cNvPicPr/>
          <p:nvPr/>
        </p:nvPicPr>
        <p:blipFill>
          <a:blip r:embed="rId1"/>
          <a:stretch/>
        </p:blipFill>
        <p:spPr>
          <a:xfrm>
            <a:off x="476280" y="1298520"/>
            <a:ext cx="8002440" cy="48643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2"/>
          <p:cNvSpPr/>
          <p:nvPr/>
        </p:nvSpPr>
        <p:spPr>
          <a:xfrm>
            <a:off x="1979640" y="54936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rebuchet MS"/>
                <a:ea typeface="Arial"/>
              </a:rPr>
              <a:t>Обучение чте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"/>
          <p:cNvSpPr/>
          <p:nvPr/>
        </p:nvSpPr>
        <p:spPr>
          <a:xfrm>
            <a:off x="684360" y="549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ение сл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Рисунок 2" descr="мяч.jpg"/>
          <p:cNvPicPr/>
          <p:nvPr/>
        </p:nvPicPr>
        <p:blipFill>
          <a:blip r:embed="rId1"/>
          <a:stretch/>
        </p:blipFill>
        <p:spPr>
          <a:xfrm>
            <a:off x="755640" y="98100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3" descr="кукла.jpg"/>
          <p:cNvPicPr/>
          <p:nvPr/>
        </p:nvPicPr>
        <p:blipFill>
          <a:blip r:embed="rId2"/>
          <a:stretch/>
        </p:blipFill>
        <p:spPr>
          <a:xfrm>
            <a:off x="2700360" y="981000"/>
            <a:ext cx="974880" cy="11527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4"/>
          <p:cNvSpPr/>
          <p:nvPr/>
        </p:nvSpPr>
        <p:spPr>
          <a:xfrm>
            <a:off x="4427640" y="1052640"/>
            <a:ext cx="129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5"/>
          <p:cNvSpPr/>
          <p:nvPr/>
        </p:nvSpPr>
        <p:spPr>
          <a:xfrm>
            <a:off x="4427640" y="907920"/>
            <a:ext cx="914400" cy="36036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я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4356000" y="1844640"/>
            <a:ext cx="122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7"/>
          <p:cNvSpPr/>
          <p:nvPr/>
        </p:nvSpPr>
        <p:spPr>
          <a:xfrm>
            <a:off x="4356000" y="1700280"/>
            <a:ext cx="1079640" cy="43344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у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9"/>
          <p:cNvSpPr/>
          <p:nvPr/>
        </p:nvSpPr>
        <p:spPr>
          <a:xfrm>
            <a:off x="755640" y="2492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нимание письменных инструкц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0"/>
          <p:cNvSpPr/>
          <p:nvPr/>
        </p:nvSpPr>
        <p:spPr>
          <a:xfrm>
            <a:off x="755640" y="3068640"/>
            <a:ext cx="2592360" cy="43164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кажи 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1"/>
          <p:cNvSpPr/>
          <p:nvPr/>
        </p:nvSpPr>
        <p:spPr>
          <a:xfrm>
            <a:off x="4067280" y="3068640"/>
            <a:ext cx="2881080" cy="43164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дойди к ок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2"/>
          <p:cNvSpPr/>
          <p:nvPr/>
        </p:nvSpPr>
        <p:spPr>
          <a:xfrm>
            <a:off x="755640" y="3789360"/>
            <a:ext cx="2592360" cy="43164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кажи р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13"/>
          <p:cNvSpPr/>
          <p:nvPr/>
        </p:nvSpPr>
        <p:spPr>
          <a:xfrm>
            <a:off x="4067280" y="3789360"/>
            <a:ext cx="2881080" cy="43164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дойди к шкаф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5"/>
          <p:cNvSpPr/>
          <p:nvPr/>
        </p:nvSpPr>
        <p:spPr>
          <a:xfrm>
            <a:off x="826920" y="472428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ение предлож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6" descr="кошка сидит.jpg"/>
          <p:cNvPicPr/>
          <p:nvPr/>
        </p:nvPicPr>
        <p:blipFill>
          <a:blip r:embed="rId3"/>
          <a:stretch/>
        </p:blipFill>
        <p:spPr>
          <a:xfrm>
            <a:off x="684360" y="5157720"/>
            <a:ext cx="1019160" cy="129564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7" descr="кошка лежит.jpg"/>
          <p:cNvPicPr/>
          <p:nvPr/>
        </p:nvPicPr>
        <p:blipFill>
          <a:blip r:embed="rId4"/>
          <a:stretch/>
        </p:blipFill>
        <p:spPr>
          <a:xfrm>
            <a:off x="1979640" y="5157720"/>
            <a:ext cx="1655640" cy="122400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18" descr="кошка идет.jpg"/>
          <p:cNvPicPr/>
          <p:nvPr/>
        </p:nvPicPr>
        <p:blipFill>
          <a:blip r:embed="rId5"/>
          <a:stretch/>
        </p:blipFill>
        <p:spPr>
          <a:xfrm>
            <a:off x="3851280" y="5229360"/>
            <a:ext cx="1441440" cy="115236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19"/>
          <p:cNvSpPr/>
          <p:nvPr/>
        </p:nvSpPr>
        <p:spPr>
          <a:xfrm>
            <a:off x="5651640" y="4869000"/>
            <a:ext cx="2160360" cy="36036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ошка ид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20"/>
          <p:cNvSpPr/>
          <p:nvPr/>
        </p:nvSpPr>
        <p:spPr>
          <a:xfrm>
            <a:off x="5651640" y="5445000"/>
            <a:ext cx="2160360" cy="36036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ошка сид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21"/>
          <p:cNvSpPr/>
          <p:nvPr/>
        </p:nvSpPr>
        <p:spPr>
          <a:xfrm>
            <a:off x="5651640" y="6093000"/>
            <a:ext cx="2160360" cy="36036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ошка леж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3"/>
          <p:cNvSpPr/>
          <p:nvPr/>
        </p:nvSpPr>
        <p:spPr>
          <a:xfrm>
            <a:off x="2050920" y="26028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лобальное 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2"/>
          <p:cNvSpPr/>
          <p:nvPr/>
        </p:nvSpPr>
        <p:spPr>
          <a:xfrm>
            <a:off x="2700360" y="33336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логовое 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23880" y="1397160"/>
          <a:ext cx="3911760" cy="701640"/>
        </p:xfrm>
        <a:graphic>
          <a:graphicData uri="http://schemas.openxmlformats.org/drawingml/2006/table">
            <a:tbl>
              <a:tblPr/>
              <a:tblGrid>
                <a:gridCol w="978120"/>
                <a:gridCol w="977760"/>
                <a:gridCol w="978120"/>
                <a:gridCol w="97776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50" name="TextBox 21"/>
          <p:cNvSpPr/>
          <p:nvPr/>
        </p:nvSpPr>
        <p:spPr>
          <a:xfrm>
            <a:off x="755640" y="90792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ение слоговых таблиц открытых слогов (принцип лот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3"/>
          <p:cNvSpPr/>
          <p:nvPr/>
        </p:nvSpPr>
        <p:spPr>
          <a:xfrm>
            <a:off x="755640" y="2565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ение слоговых таблиц, составленных из слогов закрытого ти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4"/>
          <p:cNvSpPr/>
          <p:nvPr/>
        </p:nvSpPr>
        <p:spPr>
          <a:xfrm>
            <a:off x="900000" y="35733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5"/>
          <p:cNvSpPr/>
          <p:nvPr/>
        </p:nvSpPr>
        <p:spPr>
          <a:xfrm>
            <a:off x="2195640" y="285264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6"/>
          <p:cNvSpPr/>
          <p:nvPr/>
        </p:nvSpPr>
        <p:spPr>
          <a:xfrm>
            <a:off x="2195640" y="342900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7"/>
          <p:cNvSpPr/>
          <p:nvPr/>
        </p:nvSpPr>
        <p:spPr>
          <a:xfrm>
            <a:off x="2195640" y="400536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Прямая со стрелкой 29"/>
          <p:cNvCxnSpPr/>
          <p:nvPr/>
        </p:nvCxnSpPr>
        <p:spPr>
          <a:xfrm flipV="1">
            <a:off x="1476360" y="3357000"/>
            <a:ext cx="720000" cy="432360"/>
          </a:xfrm>
          <a:prstGeom prst="straightConnector1">
            <a:avLst/>
          </a:prstGeom>
          <a:ln w="115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7" name="Прямая со стрелкой 31"/>
          <p:cNvCxnSpPr>
            <a:endCxn id="254" idx="1"/>
          </p:cNvCxnSpPr>
          <p:nvPr/>
        </p:nvCxnSpPr>
        <p:spPr>
          <a:xfrm flipV="1">
            <a:off x="1547640" y="3812760"/>
            <a:ext cx="648360" cy="48240"/>
          </a:xfrm>
          <a:prstGeom prst="straightConnector1">
            <a:avLst/>
          </a:prstGeom>
          <a:ln w="115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8" name="Прямая со стрелкой 33"/>
          <p:cNvCxnSpPr>
            <a:endCxn id="255" idx="1"/>
          </p:cNvCxnSpPr>
          <p:nvPr/>
        </p:nvCxnSpPr>
        <p:spPr>
          <a:xfrm>
            <a:off x="1547640" y="4005000"/>
            <a:ext cx="648360" cy="384840"/>
          </a:xfrm>
          <a:prstGeom prst="straightConnector1">
            <a:avLst/>
          </a:prstGeom>
          <a:ln w="115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9" name="TextBox 34"/>
          <p:cNvSpPr/>
          <p:nvPr/>
        </p:nvSpPr>
        <p:spPr>
          <a:xfrm>
            <a:off x="900000" y="494172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ение слоговых таблиц, где буквы написаны на значительном расстоянии (10—15 см) друг от д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35"/>
          <p:cNvSpPr/>
          <p:nvPr/>
        </p:nvSpPr>
        <p:spPr>
          <a:xfrm>
            <a:off x="684360" y="573264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______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7"/>
          <p:cNvSpPr/>
          <p:nvPr/>
        </p:nvSpPr>
        <p:spPr>
          <a:xfrm>
            <a:off x="4140360" y="573264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м______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1"/>
          <p:cNvSpPr/>
          <p:nvPr/>
        </p:nvSpPr>
        <p:spPr>
          <a:xfrm>
            <a:off x="1835280" y="62064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налитико-синтетическое 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1"/>
          <p:cNvPicPr/>
          <p:nvPr/>
        </p:nvPicPr>
        <p:blipFill>
          <a:blip r:embed="rId1"/>
          <a:stretch/>
        </p:blipFill>
        <p:spPr>
          <a:xfrm>
            <a:off x="1042920" y="1557360"/>
            <a:ext cx="5329440" cy="172728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"/>
          <p:cNvSpPr/>
          <p:nvPr/>
        </p:nvSpPr>
        <p:spPr>
          <a:xfrm>
            <a:off x="1187280" y="112536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ото для определения первого, последнего зву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4"/>
          <p:cNvSpPr/>
          <p:nvPr/>
        </p:nvSpPr>
        <p:spPr>
          <a:xfrm>
            <a:off x="1258920" y="3789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дбор картинок на заданные зв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" descr="1"/>
          <p:cNvPicPr/>
          <p:nvPr/>
        </p:nvPicPr>
        <p:blipFill>
          <a:blip r:embed="rId2"/>
          <a:stretch/>
        </p:blipFill>
        <p:spPr>
          <a:xfrm>
            <a:off x="1042920" y="4797360"/>
            <a:ext cx="3038400" cy="17528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6"/>
          <p:cNvSpPr/>
          <p:nvPr/>
        </p:nvSpPr>
        <p:spPr>
          <a:xfrm>
            <a:off x="1187280" y="40766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7"/>
          <p:cNvSpPr/>
          <p:nvPr/>
        </p:nvSpPr>
        <p:spPr>
          <a:xfrm>
            <a:off x="3132000" y="407664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8T19:01:06Z</dcterms:created>
  <dc:creator>Дружинины</dc:creator>
  <dc:description/>
  <dc:language>en-US</dc:language>
  <cp:lastModifiedBy>ольга мамадалиева</cp:lastModifiedBy>
  <dcterms:modified xsi:type="dcterms:W3CDTF">2021-01-25T15:37:30Z</dcterms:modified>
  <cp:revision>143</cp:revision>
  <dc:subject/>
  <dc:title>Методы работы при аутизме</dc:title>
</cp:coreProperties>
</file>